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FAE-943C-415A-A8DF-93B790DD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CCD-AF2C-4B96-92A2-36D13FA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A1C-6476-429B-BA93-C7B952CD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9CD-168F-4D32-AE00-5709F1B2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81B-D27B-48FE-8DC2-6CFB4862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641-55A2-4715-820F-2773269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508-FE4C-45A0-8722-E2A5A94E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01B-9D8F-4609-8C25-5DB6968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05B-F856-4CF0-9F74-ECA1318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C6E-4EFE-435D-9854-28AB134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AD1-71C5-490A-8726-AE6B618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15B-4B4D-4ECB-90CA-F08B30FA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DAF-6D0B-48CB-B363-6044E881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09880" cy="11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سنابل وزهور تبقـى مليانـ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بيادر وحقـول تبقـى حليان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طاحن بتدور بطعمي المعم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خبز ونار ونور أطيب قربا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572000" cy="89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عناقيـد النـور بكــروم الدنــ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مواسـم ودهــور فيـك بتغـتـن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معصـرة الـدار يا سـر الأس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خمـــر ونـــور نار كاســة قربانــة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70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343400" cy="10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نعمـة للكــل  يا جسم ودما عالأرض بتضــل عربـون الس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بي يسوع  صوبك دربي طل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عم بعطــش وبجــوع أعطـينــي القربان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02:19Z</dcterms:created>
  <dc:creator>SUZANNE.MD</dc:creator>
  <dc:description/>
  <dc:language>en-US</dc:language>
  <cp:lastModifiedBy>HANI SAFI</cp:lastModifiedBy>
  <dcterms:modified xsi:type="dcterms:W3CDTF">2003-04-17T11:12:57Z</dcterms:modified>
  <cp:revision>2</cp:revision>
  <dc:subject/>
  <dc:title>PowerPoint Presentation</dc:title>
</cp:coreProperties>
</file>